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EB7-FA6B-4CFC-846D-5F4CC43B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C60-22ED-4D1F-9850-DA1B7977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E4C-C2AF-4F3E-8F60-0C244D10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EE4-2790-4D87-81EF-8DFB6F7B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82B6-2824-43FF-8951-8D167AF2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F482-0B24-45FD-A0AC-03EA1F5E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A024-DE14-431F-AA6D-6D951B38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AE33-BE12-4D74-9F1F-A3F2E151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7FF3-C757-41E9-B8A7-81212C1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FBD7-2186-47C8-8212-52A9054E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16D8-0B60-401C-9F5D-0A92643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7B7-9709-4FA9-BFE3-05115A29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9474-9183-4E95-9831-E5EFD89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A05B-3F3D-480D-962E-B543BAD0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CF13-3839-4D3D-A86F-7B526A9F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84D9-D40A-4E62-A3E7-EDB8C5AA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C944-D8B4-4A80-9C5D-CEB2401D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D39-B6E7-4F1A-995C-0B75E525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48C-B716-442C-9726-134357BE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431-371C-481E-85A9-C5DB5FEC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327-BE20-4C0E-A85E-71C753DD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E10-485A-4921-A2CE-54D7CCC7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A9F-06B2-4646-B748-418B8F29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546-98F9-4AC5-9F2F-6A18692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CC9F-D90F-4925-911A-DAED6D121D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5AD0-C496-494F-B5F8-F4460458A3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СПОРТТУРИЗМА РОСС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7-28.05.2010 г.                           г. Сочи ст. «Центральный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499520" cy="4236840"/>
        </p:xfrm>
        <a:graphic>
          <a:graphicData uri="http://schemas.openxmlformats.org/drawingml/2006/table">
            <a:tbl>
              <a:tblPr/>
              <a:tblGrid>
                <a:gridCol w="4619520"/>
                <a:gridCol w="1440000"/>
                <a:gridCol w="14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делег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вж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авенк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Ровен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Ники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вертик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Лобой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рополь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шенич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Ш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А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Тужико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Admin</cp:lastModifiedBy>
  <dcterms:modified xsi:type="dcterms:W3CDTF">2010-05-26T14:00:18Z</dcterms:modified>
  <cp:revision>12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